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BDF-B919-4901-82D9-9E8E869D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7D2-EE5A-4E79-85C5-52FCF24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55E-A237-4348-ABC4-EDD56995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139-F31E-4068-B9C8-4FEBD881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A3AE-F60E-43EF-A64D-71E84D28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E872-0E16-4536-AB94-9EF6FA9D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027C-6821-406E-87A7-8242ACA9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9A15-1146-4087-89DE-6A7C2C91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9841-1A96-4B3A-BF42-52ED4ABD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873D-2D12-42A3-A320-605ABD85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79A7-8191-4D1D-80F8-44BFB20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912-851D-4EFF-9940-EBCA0330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9589-0915-43CB-898E-474DF1F4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CDB2-938F-4D40-BEB9-C741FD24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6A5C-AC2F-4D0D-A009-8AEAE181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41D3-0984-4BCC-9831-5AFC1B0E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D8F5-8BC9-40C6-909E-ADDC77E0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75C-2F00-4D2D-A954-13F6CDAB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F6E-FB38-4E1C-BC71-60B04517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207-6FB8-444A-81AC-B8E24C8E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80E-DBE9-4DC0-B225-B3CD3A77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20D-CE94-47D6-84F2-61E3B12A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CAA-9D98-4BBA-8844-5038138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FFD-B196-46B5-AE06-D916C40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F18A-5511-4927-99DF-98A013A44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EF6F-4240-4A57-BC95-476D175CA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ing Literal Equations and Formul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067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literal equations and formulas for a specified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hese skills to solve practic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Definitions: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literal equatio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an equation that contains two or more variabl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:   x = yz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rmul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an equation that states a rule for the relationship between certain quantiti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:  A = l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  Solve the equation -5x + y = -56 for 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how all of your work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, subtract y from both sides of the eq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, divide by -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20570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 -5x + y = -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- y    -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-5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-56 -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5      -5   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2057400"/>
            <a:ext cx="15228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2819520"/>
            <a:ext cx="30456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3048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304812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181480" y="4267080"/>
          <a:ext cx="24386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267080"/>
                    <a:ext cx="24386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other exampl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Solve a(y + 1) = b for 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olve for 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divide by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subtrac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63832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(y + 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   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+ 1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1      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209680"/>
            <a:ext cx="685800" cy="6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ere’s a tricky one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 Solve 3ax - b = d - 4cx for 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, we must get all terms with x together on on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4cx to both s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b to both s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, use the distributive property to factor x out of the two terms on the le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, x is being multiplied by (3a + 4c).  To undo this, divide both sides by (3a + 4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51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ax - b = d - 4c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+4cx           +4c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ax - b + 4cx =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+b             +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ax + 4cx = d +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(3a + 4c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 + b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a + 4c)    (3a + 4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d +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a + 4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1600200"/>
            <a:ext cx="68580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590920"/>
            <a:ext cx="7596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486040" y="4114800"/>
            <a:ext cx="3049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095520" y="4114800"/>
            <a:ext cx="3049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y a few on your ow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) Solve P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2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7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) Solve P = 2l + 2w for 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) Solve 4x - 3m = 2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1:39:04Z</dcterms:created>
  <dc:creator>HCPS</dc:creator>
  <dc:description/>
  <dc:language>en-US</dc:language>
  <cp:lastModifiedBy>Parkland High School</cp:lastModifiedBy>
  <cp:lastPrinted>2010-10-05T17:03:51Z</cp:lastPrinted>
  <dcterms:modified xsi:type="dcterms:W3CDTF">2010-10-07T13:15:42Z</dcterms:modified>
  <cp:revision>12</cp:revision>
  <dc:subject/>
  <dc:title>3-3 Solving Multi-Step Equations</dc:title>
</cp:coreProperties>
</file>